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08634-7B0A-44D0-A0F4-132518B6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61389-F152-4380-AC49-FB047B5A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B6CCE-5ECB-419E-AD6F-41DB24F6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E97F-CF93-4C29-9F0D-CF4EC1EE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506F-D22C-4D63-AE37-A61FBAF0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9229-C79F-4B00-8311-FF2D11B4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2E2A-F37C-4C52-8BAC-24040F52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230F-737C-4A4E-B805-29771265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B1D6-9FC1-4231-AD69-8B31881E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DE93-C752-477C-8CCB-CF836E55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5F6C-64FE-4091-8468-79B01830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03324-A93E-4F7D-A7C0-830B61BE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DDDD-CB15-4E4B-96A2-37D51064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5AE1-62A5-43D6-B416-72846776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F8C7-35E3-41E2-899B-BDCDC147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91C7-E567-46CF-9188-2C04A513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F30C-70F6-415C-BFC4-B97E792D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A71DD-E2CA-4D29-9FBD-5618F5CD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9018B-6630-4CFF-9239-F20013C9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27CF-5D2F-4399-BE68-EDDD235B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733BC-78D8-41CD-9F8F-2798433B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0F7A-F9B4-4BAC-B638-09922E29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A7E3-CA19-4B92-B01E-E0D0D594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1268-0DC6-4918-917F-934E117B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6E52-9B43-4589-9B84-BAEB85B5F9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2E73-04E8-4BDC-86CA-E766FC6207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56000" y="274680"/>
            <a:ext cx="43308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feeb"/>
                </a:solidFill>
                <a:latin typeface="Georgia"/>
              </a:rPr>
              <a:t>Коррупция - это незаконное принятие или извлечение, как в своих интересах, так и в интересах других лиц, лично или через посредников имущественных благ и преимуществ чиновниками, сотрудниками правоохранительных органов и иными должностными лицами с использованием своих должностных полномочий и связанных с ними возможностей, а также подкуп таких лиц путем противоправного предоставления им таких благ и преимуществ</a:t>
            </a:r>
            <a:r>
              <a:rPr b="0" lang="ru-RU" sz="2000" spc="-1" strike="noStrike">
                <a:solidFill>
                  <a:srgbClr val="e2feeb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5" name="Picture 5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1054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eorgia"/>
              </a:rPr>
              <a:t>Предупреждение коррупционных правонарушений осуществляется путем применения следующих мер: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2feeb"/>
                </a:solidFill>
                <a:latin typeface="Georgia"/>
              </a:rPr>
              <a:t>1) разработка и реализация ведомственных и муниципальных антикоррупционных программ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2feeb"/>
                </a:solidFill>
                <a:latin typeface="Georgia"/>
              </a:rPr>
              <a:t>2) антикоррупционная экспертиза правовых актов и их проек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2feeb"/>
                </a:solidFill>
                <a:latin typeface="Georgia"/>
              </a:rPr>
              <a:t>3) мониторинг коррупционных правонарушений в целом и отдельных их вид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2feeb"/>
                </a:solidFill>
                <a:latin typeface="Georgia"/>
              </a:rPr>
              <a:t>4) антикоррупционные образование и пропаганд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2feeb"/>
                </a:solidFill>
                <a:latin typeface="Georgia"/>
              </a:rPr>
              <a:t>5) оказание государственной поддержки формированию и деятельности общественных объединений, создаваемых в целях противодействия коррупци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2feeb"/>
                </a:solidFill>
                <a:latin typeface="Georgia"/>
              </a:rPr>
              <a:t>6) опубликование отчетов о реализации мер антикоррупционной политик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2feeb"/>
                </a:solidFill>
                <a:latin typeface="Georgia"/>
              </a:rPr>
              <a:t>7) иные меры, предусмотренные законодательств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Georgia"/>
              </a:rPr>
              <a:t>Фотографии с мероприятия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7" name="Рисунок 3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3492720" cy="1968480"/>
          </a:xfrm>
          <a:prstGeom prst="rect">
            <a:avLst/>
          </a:prstGeom>
          <a:ln w="0">
            <a:noFill/>
          </a:ln>
        </p:spPr>
      </p:pic>
      <p:pic>
        <p:nvPicPr>
          <p:cNvPr id="538" name="Рисунок 4" descr=""/>
          <p:cNvPicPr/>
          <p:nvPr/>
        </p:nvPicPr>
        <p:blipFill>
          <a:blip r:embed="rId2"/>
          <a:stretch/>
        </p:blipFill>
        <p:spPr>
          <a:xfrm>
            <a:off x="4211640" y="1506600"/>
            <a:ext cx="3637080" cy="204948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5" descr=""/>
          <p:cNvPicPr/>
          <p:nvPr/>
        </p:nvPicPr>
        <p:blipFill>
          <a:blip r:embed="rId3"/>
          <a:stretch/>
        </p:blipFill>
        <p:spPr>
          <a:xfrm>
            <a:off x="765000" y="3645000"/>
            <a:ext cx="3419640" cy="1927080"/>
          </a:xfrm>
          <a:prstGeom prst="rect">
            <a:avLst/>
          </a:prstGeom>
          <a:ln w="0">
            <a:noFill/>
          </a:ln>
        </p:spPr>
      </p:pic>
      <p:pic>
        <p:nvPicPr>
          <p:cNvPr id="540" name="Рисунок 7" descr=""/>
          <p:cNvPicPr/>
          <p:nvPr/>
        </p:nvPicPr>
        <p:blipFill>
          <a:blip r:embed="rId4"/>
          <a:stretch/>
        </p:blipFill>
        <p:spPr>
          <a:xfrm>
            <a:off x="4749840" y="3860640"/>
            <a:ext cx="39369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Рисунок 3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3833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2390e"/>
                </a:solidFill>
                <a:latin typeface="Arial"/>
              </a:rPr>
              <a:t>Скажем «нет» коррупции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3" name="Содержимое 3" descr="_corrupt00.jpg"/>
          <p:cNvPicPr/>
          <p:nvPr/>
        </p:nvPicPr>
        <p:blipFill>
          <a:blip r:embed="rId1"/>
          <a:stretch/>
        </p:blipFill>
        <p:spPr>
          <a:xfrm>
            <a:off x="539640" y="1700280"/>
            <a:ext cx="8353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Georgia"/>
              </a:rPr>
              <a:t>История борьбы с коррупцией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2feeb"/>
                </a:solidFill>
                <a:latin typeface="Georgia"/>
              </a:rPr>
              <a:t>XIII – первое упоминание о мздоимстве (коррупци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feeb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e2feeb"/>
                </a:solidFill>
                <a:latin typeface="Georgia"/>
              </a:rPr>
              <a:t>XV век – законодательное её ограничение. Время правления Ивана II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feeb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e2feeb"/>
                </a:solidFill>
                <a:latin typeface="Georgia"/>
              </a:rPr>
              <a:t>XVI век – вводилась смертная казнь за взятки. Время правления Ивана I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feeb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e2feeb"/>
                </a:solidFill>
                <a:latin typeface="Georgia"/>
              </a:rPr>
              <a:t>XVII век – по Соборному Уложению 1649г. (Алексей Михайлович). Наказание за преступление, попадающее под понятие корруп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feeb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e2feeb"/>
                </a:solidFill>
                <a:latin typeface="Georgia"/>
              </a:rPr>
              <a:t>XVIII век – телесные наказания; расцвет корруп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feeb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e2feeb"/>
                </a:solidFill>
                <a:latin typeface="Georgia"/>
              </a:rPr>
              <a:t>С 1826г. при Николае I коррупция стала механизмом государственного упр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feeb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e2feeb"/>
                </a:solidFill>
                <a:latin typeface="Georgia"/>
              </a:rPr>
              <a:t>С 1918г. – по декрету о взяточничестве полагалось тюремное заключение  на 5 лет  с конфискацией иму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feeb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e2feeb"/>
                </a:solidFill>
                <a:latin typeface="Georgia"/>
              </a:rPr>
              <a:t>С 1922г. – по Уголовному Кодексу за взяточничество расстре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feeb"/>
                </a:solidFill>
                <a:latin typeface="Georgia"/>
              </a:rPr>
              <a:t>    </a:t>
            </a:r>
            <a:r>
              <a:rPr b="0" lang="ru-RU" sz="2000" spc="-1" strike="noStrike">
                <a:solidFill>
                  <a:srgbClr val="e2feeb"/>
                </a:solidFill>
                <a:latin typeface="Georgia"/>
              </a:rPr>
              <a:t>С 1957г. – официально борьба  приостановлена, т.к  коррупция считалась редким явле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eorgia"/>
              </a:rPr>
              <a:t>Причины коррупци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feeb"/>
                </a:solidFill>
                <a:latin typeface="Georgia"/>
              </a:rPr>
              <a:t>Низкая заработная плата государственных служащ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feeb"/>
                </a:solidFill>
                <a:latin typeface="Georgia"/>
              </a:rPr>
              <a:t>   </a:t>
            </a:r>
            <a:r>
              <a:rPr b="1" lang="ru-RU" sz="2400" spc="-1" strike="noStrike">
                <a:solidFill>
                  <a:srgbClr val="e2feeb"/>
                </a:solidFill>
                <a:latin typeface="Georgia"/>
              </a:rPr>
              <a:t>- Незнание зако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feeb"/>
                </a:solidFill>
                <a:latin typeface="Georgia"/>
              </a:rPr>
              <a:t>   </a:t>
            </a:r>
            <a:r>
              <a:rPr b="1" lang="ru-RU" sz="2400" spc="-1" strike="noStrike">
                <a:solidFill>
                  <a:srgbClr val="e2feeb"/>
                </a:solidFill>
                <a:latin typeface="Georgia"/>
              </a:rPr>
              <a:t>- Желание легкой наж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feeb"/>
                </a:solidFill>
                <a:latin typeface="Georgia"/>
              </a:rPr>
              <a:t>  </a:t>
            </a:r>
            <a:r>
              <a:rPr b="1" lang="ru-RU" sz="2400" spc="-1" strike="noStrike">
                <a:solidFill>
                  <a:srgbClr val="e2feeb"/>
                </a:solidFill>
                <a:latin typeface="Georgia"/>
              </a:rPr>
              <a:t>-  Частая сменяемость лиц на различных должностя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feeb"/>
                </a:solidFill>
                <a:latin typeface="Georgia"/>
              </a:rPr>
              <a:t>   </a:t>
            </a:r>
            <a:r>
              <a:rPr b="1" lang="ru-RU" sz="2400" spc="-1" strike="noStrike">
                <a:solidFill>
                  <a:srgbClr val="e2feeb"/>
                </a:solidFill>
                <a:latin typeface="Georgia"/>
              </a:rPr>
              <a:t>- Нестабильность в стра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feeb"/>
                </a:solidFill>
                <a:latin typeface="Georgia"/>
              </a:rPr>
              <a:t>  </a:t>
            </a:r>
            <a:r>
              <a:rPr b="1" lang="ru-RU" sz="2400" spc="-1" strike="noStrike">
                <a:solidFill>
                  <a:srgbClr val="e2feeb"/>
                </a:solidFill>
                <a:latin typeface="Georgia"/>
              </a:rPr>
              <a:t>-  Коррупция как привы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feeb"/>
                </a:solidFill>
                <a:latin typeface="Georgia"/>
              </a:rPr>
              <a:t>  </a:t>
            </a:r>
            <a:r>
              <a:rPr b="1" lang="ru-RU" sz="2400" spc="-1" strike="noStrike">
                <a:solidFill>
                  <a:srgbClr val="e2feeb"/>
                </a:solidFill>
                <a:latin typeface="Georgia"/>
              </a:rPr>
              <a:t>- Низкий уровень жизни нас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feeb"/>
                </a:solidFill>
                <a:latin typeface="Georgia"/>
              </a:rPr>
              <a:t>  </a:t>
            </a:r>
            <a:r>
              <a:rPr b="1" lang="ru-RU" sz="2400" spc="-1" strike="noStrike">
                <a:solidFill>
                  <a:srgbClr val="e2feeb"/>
                </a:solidFill>
                <a:latin typeface="Georgia"/>
              </a:rPr>
              <a:t>- Слабая развитость государственных институ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feeb"/>
                </a:solidFill>
                <a:latin typeface="Georgia"/>
              </a:rPr>
              <a:t> </a:t>
            </a:r>
            <a:r>
              <a:rPr b="1" lang="ru-RU" sz="2400" spc="-1" strike="noStrike">
                <a:solidFill>
                  <a:srgbClr val="e2feeb"/>
                </a:solidFill>
                <a:latin typeface="Georgia"/>
              </a:rPr>
              <a:t>-  Безработ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feeb"/>
                </a:solidFill>
                <a:latin typeface="Georgia"/>
              </a:rPr>
              <a:t>  </a:t>
            </a:r>
            <a:r>
              <a:rPr b="1" lang="ru-RU" sz="2400" spc="-1" strike="noStrike">
                <a:solidFill>
                  <a:srgbClr val="e2feeb"/>
                </a:solidFill>
                <a:latin typeface="Georgia"/>
              </a:rPr>
              <a:t>- Неразвитость институтов гражданского общ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eorgia"/>
              </a:rPr>
              <a:t>Формы коррупци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2feeb"/>
                </a:solidFill>
                <a:latin typeface="Georgia"/>
              </a:rPr>
              <a:t>Взя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2feeb"/>
                </a:solidFill>
                <a:latin typeface="Georgia"/>
              </a:rPr>
              <a:t>Растр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2feeb"/>
                </a:solidFill>
                <a:latin typeface="Georgia"/>
              </a:rPr>
              <a:t>Мошеннич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2feeb"/>
                </a:solidFill>
                <a:latin typeface="Georgia"/>
              </a:rPr>
              <a:t>Вымогатель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2feeb"/>
                </a:solidFill>
                <a:latin typeface="Georgia"/>
              </a:rPr>
              <a:t>Фаворитизм - в государственной и общественной жизни страстное покровительство любимцам (фаворитам) и назначение любимцев на высокие должности, несмотря на то, что они не обладают ни способностями, ни знаниями, необходимыми для их служ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2feeb"/>
                </a:solidFill>
                <a:latin typeface="Georgia"/>
              </a:rPr>
              <a:t>Злоупотребление должностными полномочи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Georgia"/>
              </a:rPr>
              <a:t>Основные признаки коррупци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2feeb"/>
                </a:solidFill>
                <a:latin typeface="Georgia"/>
              </a:rPr>
              <a:t>Обоюдное согласие участников действ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2feeb"/>
                </a:solidFill>
                <a:latin typeface="Georgia"/>
              </a:rPr>
              <a:t>Наличие взаимных обязатель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2feeb"/>
                </a:solidFill>
                <a:latin typeface="Georgia"/>
              </a:rPr>
              <a:t>Получение  определенных выгод и преимуществ обеими сторон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2feeb"/>
                </a:solidFill>
                <a:latin typeface="Georgia"/>
              </a:rPr>
              <a:t>Принимаемое решение нарушает закон или противоречит  моральным норм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2feeb"/>
                </a:solidFill>
                <a:latin typeface="Georgia"/>
              </a:rPr>
              <a:t>Сознательное подчинение общих интересов личной выгод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2feeb"/>
                </a:solidFill>
                <a:latin typeface="Georgia"/>
              </a:rPr>
              <a:t>Обе стороны стремятся скрыть свои действ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2" descr="img7"/>
          <p:cNvPicPr/>
          <p:nvPr/>
        </p:nvPicPr>
        <p:blipFill>
          <a:blip r:embed="rId7"/>
          <a:stretch/>
        </p:blipFill>
        <p:spPr>
          <a:xfrm>
            <a:off x="4788000" y="1916280"/>
            <a:ext cx="4105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Georgia"/>
              </a:rPr>
              <a:t>Формы коррупции в зависимости от сферы деятельност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2feeb"/>
                </a:solidFill>
                <a:latin typeface="Georgia"/>
              </a:rPr>
              <a:t>Коррупция в сфере государственного управ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2feeb"/>
                </a:solidFill>
                <a:latin typeface="Georgia"/>
              </a:rPr>
              <a:t>Парламентская корруп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2feeb"/>
                </a:solidFill>
                <a:latin typeface="Georgia"/>
              </a:rPr>
              <a:t>Деловая корруп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2feeb"/>
                </a:solidFill>
                <a:latin typeface="Georgia"/>
              </a:rPr>
              <a:t>Коррупция на предприятия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2feeb"/>
                </a:solidFill>
                <a:latin typeface="Georgia"/>
              </a:rPr>
              <a:t>Бытовая корруп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Рисунок 3" descr=""/>
          <p:cNvPicPr/>
          <p:nvPr/>
        </p:nvPicPr>
        <p:blipFill>
          <a:blip r:embed="rId6"/>
          <a:stretch/>
        </p:blipFill>
        <p:spPr>
          <a:xfrm>
            <a:off x="4648320" y="1989000"/>
            <a:ext cx="4038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Georgia"/>
              </a:rPr>
              <a:t>Народная мудрость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« В суд ногой- в карман рукой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« Взятка и камни размягчает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«Возьми на калачи, да только дело не волоч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« Деньги не бог, а милуют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« Когда говорят деньги, правда молчит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« Не подмажешь- не поедеш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« С переднего крыльца отказ, а с заднего- милости просим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Georgia"/>
              </a:rPr>
              <a:t>Задачами антикоррупционной политики  являются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1) устранение причин, порождающих коррупцию, и противодействие условиям, способствующим ее проявлению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2) повышение риска коррупционных действий и потерь от них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3) увеличение выгод от действий в рамках закона и во благо общественных интерес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4) вовлечение гражданского общества в реализацию антикоррупционной политик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eorgia"/>
              </a:rPr>
              <a:t>5) формирование нетерпимости по отношению к коррупционным действия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eorgia"/>
              </a:rPr>
              <a:t>Противодействие коррупции  осуществляется на основе следующих основных принципов:</a:t>
            </a: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Georgia"/>
              </a:rPr>
              <a:t>1) равенство всех перед законом и судом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Georgia"/>
              </a:rPr>
              <a:t>2) приоритет профилактических мер, направленных на искоренение условий, порождающих коррупцию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Georgia"/>
              </a:rPr>
              <a:t>3) обеспечение четкой правовой регламентации деятельности государственных органов, органов местного самоуправления, законности и гласности такой деятельности, государственного и общественного контроля за ней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Georgia"/>
              </a:rPr>
              <a:t>4) совершенствование структуры государственного и муниципального аппаратов и процедуры решения вопросов, затрагивающих права и законные интересы физических и юридических лиц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Georgia"/>
              </a:rPr>
              <a:t>5) приоритет защиты прав и законных интересов физических и юридических лиц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Georgia"/>
              </a:rPr>
              <a:t>6) признание допустимости ограничений прав и свобод лиц, замещающих государственные должности, должности государственной гражданской службы или муниципальной службы в случаях, предусмотренных федеральным законодательством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Georgia"/>
              </a:rPr>
              <a:t>7) восстановление нарушенных прав и законных интересов физических и юридических лиц, ликвидация и предупреждение вредных последствий коррупционных правонарушений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Georgia"/>
              </a:rPr>
              <a:t>8) защита государством прав и законных интересов лиц, замещающих государственные должности, должности государственной гражданской службы или муниципальной службы, установление этим лицам заработной платы (денежного содержания) и льгот, обеспечивающих указанным лицам и их семьям достойный уровень жиз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Georgia"/>
              </a:rPr>
              <a:t>9) ответственность лиц, замещающих государственные должности, должности государственной гражданской службы или муниципальной службы, за коррупционные правонарушения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Georgia"/>
              </a:rPr>
              <a:t>10) взаимодействие государственной власти и общества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Georgia"/>
              </a:rPr>
              <a:t>11) обеспечение гласност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Georgia"/>
              </a:rPr>
              <a:t>12) адаптивность политики, опирающейся на независимые мониторинг и социальную диагностику.</a:t>
            </a:r>
            <a:r>
              <a:rPr b="0" i="1" lang="ru-RU" sz="9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4:38:01Z</dcterms:created>
  <dc:creator>Людмила Ивановна</dc:creator>
  <dc:description/>
  <dc:language>en-US</dc:language>
  <cp:lastModifiedBy>qwe</cp:lastModifiedBy>
  <dcterms:modified xsi:type="dcterms:W3CDTF">2021-02-25T09:38:57Z</dcterms:modified>
  <cp:revision>7</cp:revision>
  <dc:subject/>
  <dc:title>Скажем « нет» коррупции</dc:title>
</cp:coreProperties>
</file>